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gif" ContentType="image/gif"/>
  <Override PartName="/ppt/media/image9.wmf" ContentType="image/x-wmf"/>
  <Override PartName="/ppt/media/image7.png" ContentType="image/png"/>
  <Override PartName="/ppt/media/image8.wmf" ContentType="image/x-wmf"/>
  <Override PartName="/ppt/media/image10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E749-2CBC-464E-98F1-E239127E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BABC-FE88-41D3-9CF9-BFA77CCF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CD1EB-247C-440A-AD1A-414C136D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2FEB4-B691-4D47-B5C2-611B9F0B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A6528-759C-4F95-B2D4-104B5B92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40BBD-4722-4802-9FC1-0AE73CFF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76B48-8185-4454-AD3D-90111A80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FA550-8E1B-4B0E-A45E-5622E888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4BCEF-A751-493F-9920-75360138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114D9-85B3-4600-97F5-A9D97A09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2120A-9CF7-496B-AC5C-3138CFEA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A284F-AF20-4763-9E3E-83F15062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043F-F55C-45DF-9CAF-053716FE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9B83C-1D35-4A36-BA86-E2EE7C33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6907A-58C6-471E-806B-16D20BAF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DBFEC-F1C3-48E0-B9AB-BE7088F4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1E213-0A4C-4672-BA3E-8F43E903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C5B8A-BD7D-4044-864B-A81C88C1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6DFFD-0CBE-44A6-B000-E609052B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A934E-4DFE-4392-90D6-8E2019EC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0AEEB-DDB6-4837-B523-5EF6F861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3E936-26BB-4529-BC66-785AABF2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94387-D00E-481D-B92F-B7D765C9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3257-B2D4-44EE-8CB7-D1B65E4F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9F538-5CC7-4132-912F-F77EA448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DE9E1-7DFB-492E-A281-A92F22C0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526DF-8456-4FB5-A770-36F63081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12E40-7A30-4994-869C-2312257C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3F53B-374B-42E6-8E31-B43E3D29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602EA-7448-4383-B84B-3D76D001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851F8-9CC6-4BD9-8772-020EE7D5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0840E-5CC5-432B-AF09-5B5798C6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15AFD-F989-4A50-AA2C-3FF1512C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B7C92-6804-4FF7-92DA-448AF8C2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B5C0-F87A-4987-B978-7CF835A1D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47F36-B40C-426A-A0BE-711D1BE4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56443-7626-4004-8BDC-0892873C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49BCA-AD3E-41FF-923D-454FBA59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D0894-BE5A-453A-B548-1CD2895B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97B99-C8A0-4630-9C07-963128C1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792AE-86CE-427C-B0E4-782E0743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65103-43E5-48E7-8008-65C8F7DD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A0B27-55B3-45D8-9712-B724DEA4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66A85-0950-47AE-85CF-50FACF85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FC397-829D-4552-B9CC-A2F26329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D387-24B4-4943-BB15-C2A2762D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D46E0-6E19-4730-82E8-AFCFAA14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BBF24-45BA-4EF6-B52D-2BAE9D33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1B654-B90C-4605-B438-8787FC1F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514A7-D689-434D-B6CD-53483F2A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A0BE8-73E6-4899-9A2C-FE7815A9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363165-446B-438E-BDCD-BF342C79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426B8C-3C59-4B8D-A075-E12ABA02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FA6702-D6A8-4B5D-A5F6-080B4816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E446D4-14D0-4281-9B27-5B6A9DFB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5E90D2-8135-4702-96EF-350845EB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32A5-21F1-44B9-9939-00B261D9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89CC7D-0E80-4D0E-9152-37E7DECB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BDB5CD-26C1-4E6F-9A4D-F90D41D0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2B123E-4D0E-4A33-800B-29642ADD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32FB9E-C959-4684-A798-6B6AFB0A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ABDCA5-F427-4A68-9B66-1FD39C1B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53D4EB-4355-47CD-949F-B3E10361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813E19-E88E-4ECD-99D0-BFCD43C6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3621-3BC2-4D0B-95BD-FF5B92C5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5500-3B94-448C-BBB8-815F84B1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69F7-3A98-4617-83C9-DF77CE68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F0CF-A6BE-449C-9C79-2ECBD643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B6B-9876-4BC3-8189-7485A974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8885-E06A-4E11-B8AE-08152C2F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0E9B-CAC1-4637-B518-3371EFD8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F99C-FD3B-4BC2-BE0D-306F319A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0374-41F3-4B81-9E45-F649C33F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413F-3742-40EC-8C55-F5C460A1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97E55-E71A-41F0-B163-D1BA269C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4EB0F-4D95-4560-BF27-30FB4B48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7B063-AFD8-4B6E-AFF8-EA61C285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E4CD8-760E-4628-B434-1EEDD359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996F9-8B8C-44F4-9B59-9A5058C6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E4E8-79E3-4FD2-B0FC-0838C969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B583C-CF6A-4FFF-9D29-CDF60270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DECFE-FCD9-4219-94AA-89727DFB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0CA98-5FAF-4492-8DEB-B91EE430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824BC-EC84-4601-9034-139D28A1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87549-CEFA-47BE-B7FE-4CA375DA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9F88A-C483-4474-91E3-08197836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52E8F-6A71-4C42-A253-84022CCF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9EC0D-B29E-47C0-8CCE-D54F0DFF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20123-2AEA-4C6E-891E-D8FE6D5B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FAD34-C80A-4D6E-9917-101C4EA4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39DB-5A16-4608-9CFA-F51D2263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3009A-B7F4-41DC-91C8-E92BB6F9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7A347-8A63-4650-AEE9-216A856E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225B8-17C6-4842-A388-DCF2A69C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D9F13-3516-4052-9E93-29C6D0DD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8EC0F-3E31-46F7-B46B-B179CFDA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8F107-2C80-44F2-890F-103B4640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36D87-15A7-4FF1-8C88-7E5076E8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02159-05AE-4FD8-A1D8-021AFD8B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9F2FA-DCDA-43A8-960A-4B6F733A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D4225-5887-44CE-97D3-D12BFB19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95A6-5995-4C70-A024-5BD85111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EDD56-538C-4C92-B418-7AFBE8DB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59E67-1213-4DC8-B29B-2BF84C7C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10CD6-21D6-4469-B547-669CC40B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C9C10-5E15-4EC5-8F75-A8DF93EE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93749-32B1-460C-BB29-481F287A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F321F-B984-4130-BAB9-D87CC7C6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2E19B-1F4C-4EA9-ACD7-0C62D6B1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7A37F-11FF-4545-832F-75852A14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22D51-1ED2-4DB1-B2D6-CEB2F788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FC8B9-D88D-4015-9D86-A9B87F04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CFC3-EDAE-4329-88F5-804A097B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17F2B-421D-4785-8D4D-66D0F68B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CF972-BDC0-4BAF-BF1A-06F825F4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421C3-53AA-482E-84D2-D55431ED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49AD2-9E8B-431C-B394-8C7BA747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98F8C-488E-40CD-9D41-48767E68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4EB5C-B059-4004-96CE-B88B7432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84FE5-D198-4E3A-B17A-B1A6CCFA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D3801-CF8D-416A-A696-0D00B364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505D5-93DE-46A9-9000-FD697C61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0C1CC-989B-44AF-A3D9-E9C530D0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7CF1-209A-4D15-A03E-E7B2E3B4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2497A-1EBC-4CAA-A2B0-BB32CE30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45226-6030-4D43-B1AB-24551A96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4A45A-853A-45F0-94EB-87FC1D6E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38177-09A8-4B8C-9FC1-8D95CA3C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0E77D-564A-4F3E-AC5B-5E2FEBFC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57633-32BA-4091-9814-EBCF6702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ADBA1-0109-464C-84B6-C40F05B4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CBE11-7BA3-4340-9B1A-2B0893CE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BCF3C-F38D-4636-91DB-7A3D04ED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B4E92-D0DE-4877-B311-25B83C3E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E782-6B76-4118-81AD-0702EE17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6C910-12E8-4235-A8C4-D10D4552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67AF6-7195-4948-826D-C48EAC50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38B7C-E328-4DB7-B3C5-4428A06A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3EE55-FA63-4576-981F-319EF134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08223-593F-4DA1-9A0D-CC68875F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06203-345E-4E7A-8F0F-AA7FC7C1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10DE2-A0A0-4577-8A84-7BD6070B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B85CF-074E-48CE-9B87-0C6D636C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6A478-ECBF-4AD4-A2D9-AA9C7F33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80E50-49E8-4CED-B799-A9955299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3093-578B-42BE-8379-5CDA6CDA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D8BD1-EF92-4DD6-B459-0D0C6159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69647-6EDB-4DE7-97C0-38AFEAC6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5C4F5-8335-40DB-A704-D988534F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C1CF3-2113-432D-9976-87F0A4F0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A816C-DE22-40B7-8B68-9B1AAD04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6BA5F-182D-47DF-B43D-74000F47B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81F3A-125C-41AD-806E-5C3661E0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06F02-6CE5-4470-8921-F3D25EFF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0FF05-A4CB-4181-B6D2-333FE689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F5072-58F1-4603-911F-AEFE3799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C0E4-47B7-4B3C-9FC1-989E1402B09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A67E-ED90-4C5E-AB4B-D32EB9E5F78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C22A-BF2F-4200-AB22-65A5AAA6B72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007A-A5F2-4CAA-8656-123EA860001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512D-05E3-4BDD-A619-88B787292CF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E5C1-222D-4A14-97CB-E909A3C7837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34F2-1F2F-46B0-A6EE-D2A45B81EDB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6" descr=""/>
          <p:cNvPicPr/>
          <p:nvPr/>
        </p:nvPicPr>
        <p:blipFill>
          <a:blip r:embed="rId3"/>
          <a:stretch/>
        </p:blipFill>
        <p:spPr>
          <a:xfrm>
            <a:off x="0" y="1260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9F40-A331-489B-A203-7C365F810C4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7512-C594-461E-B0F6-520486ACE60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67A8-2E0D-4472-9D00-A07328059DF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544F-D5C1-41A8-8F7B-F0E3C4D31A6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8CAC-C8FA-442B-B4B7-851B22F5E1C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7ACA-CCBA-4FA4-8BC4-0F85E7010C1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.jpe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5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3.jpe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3.jpeg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Mjerimo temperatu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7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179280" y="347760"/>
            <a:ext cx="864072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Razmislite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Što je različito, a što je jednako u Celzijevoj i Kelvinovoj temperaturnoj ljestvici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Možete li dodirom čela nekome utvrditi povećanu temperaturu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Celzijevom ljestvicom iskažite temperature: 184K, 1400K, 20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Izrazite u kelvinima ove temperature: 28</a:t>
            </a:r>
            <a:r>
              <a:rPr b="0" lang="hr-HR" sz="3000" spc="-1" strike="noStrike" baseline="30000">
                <a:solidFill>
                  <a:srgbClr val="000000"/>
                </a:solidFill>
                <a:latin typeface="Calibri"/>
              </a:rPr>
              <a:t> o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C, -15</a:t>
            </a:r>
            <a:r>
              <a:rPr b="0" lang="hr-HR" sz="3000" spc="-1" strike="noStrike" baseline="30000">
                <a:solidFill>
                  <a:srgbClr val="000000"/>
                </a:solidFill>
                <a:latin typeface="Calibri"/>
              </a:rPr>
              <a:t> o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C. 158</a:t>
            </a:r>
            <a:r>
              <a:rPr b="0" lang="hr-HR" sz="3000" spc="-1" strike="noStrike" baseline="30000">
                <a:solidFill>
                  <a:srgbClr val="000000"/>
                </a:solidFill>
                <a:latin typeface="Calibri"/>
              </a:rPr>
              <a:t> o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70" name="Slika 1" descr=""/>
          <p:cNvPicPr/>
          <p:nvPr/>
        </p:nvPicPr>
        <p:blipFill>
          <a:blip r:embed="rId4"/>
          <a:stretch/>
        </p:blipFill>
        <p:spPr>
          <a:xfrm>
            <a:off x="0" y="633240"/>
            <a:ext cx="107460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457200" y="1628280"/>
            <a:ext cx="7786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Imate li temperatur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U kojim mjernim jedinicama iskazujemo temperaturu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Čime mjerimo temperatur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ako je građen termometar? Opišite i nacrtajte g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Slika 3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414000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000" spc="-1" strike="noStrike">
                <a:solidFill>
                  <a:srgbClr val="000000"/>
                </a:solidFill>
                <a:latin typeface="Calibri"/>
              </a:rPr>
              <a:t>Kada se tekućina zagrije, širi se i penje u cjevčicu, a hlađenjem se skuplja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i vraća u posudic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Živa ili alkohol se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grijavanjem </a:t>
            </a: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ravnomjerno šire tako da je njihovo produženje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u cjevčici razmjerno povećanju temperatu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2629080" cy="5086440"/>
          </a:xfrm>
          <a:prstGeom prst="rect">
            <a:avLst/>
          </a:prstGeom>
          <a:ln w="0">
            <a:noFill/>
          </a:ln>
        </p:spPr>
      </p:pic>
      <p:pic>
        <p:nvPicPr>
          <p:cNvPr id="552" name="Slika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Pokus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: mjerimo temperature tople i hladne v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Izmjerite temperature hladne i tople vo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Hladna voda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            Topla vo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                t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Što se dogodi kada posudicu s tekućinom iz hladne premjestimo u toplu vod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Zbog čega se razina tekućine podiže u cjevčic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Slika 3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Temperaturne ljest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12480" y="1252440"/>
            <a:ext cx="519588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Celzijeva temperaturna ljestv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Celzijev stupanj određen je kao stoti dio temperaturnog razmaka između ledišta (</a:t>
            </a:r>
            <a:r>
              <a:rPr b="0" lang="hr-HR" sz="30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C) i vrelišta (100</a:t>
            </a:r>
            <a:r>
              <a:rPr b="0" lang="hr-HR" sz="30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C)  vo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Mjerna jedinica: 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stupanj Celzija (</a:t>
            </a:r>
            <a:r>
              <a:rPr b="1" lang="hr-HR" sz="30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Oznaka temperature: 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Slika 3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58" name="Slika 5" descr=""/>
          <p:cNvPicPr/>
          <p:nvPr/>
        </p:nvPicPr>
        <p:blipFill>
          <a:blip r:embed="rId7"/>
          <a:stretch/>
        </p:blipFill>
        <p:spPr>
          <a:xfrm>
            <a:off x="5665680" y="1482840"/>
            <a:ext cx="316548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24000" y="836640"/>
            <a:ext cx="6264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Kelvinova temperaturna  ljestv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ir William Thomson, poznat kao Lord Kelvin uveo j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apsolutnu ljestvicu temperature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elvinova ljestvica započinj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ulom apsolutne temperature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znaka temperature u Kelvinovoj ljestvici: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jerna jedinica: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kelvin (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Slika 3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61" name="Slika 1" descr=""/>
          <p:cNvPicPr/>
          <p:nvPr/>
        </p:nvPicPr>
        <p:blipFill>
          <a:blip r:embed="rId8"/>
          <a:stretch/>
        </p:blipFill>
        <p:spPr>
          <a:xfrm>
            <a:off x="6497640" y="836640"/>
            <a:ext cx="2646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457200" y="100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ula apsolutne temperature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 najniža moguća temperatura u svemiru (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i kojoj čestice tijela imaju najmanju moguću energiju.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uli apsolutne temperature odgovara temperatura -273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Celzijevoj ljestvici razlika od ledišta do vrelišta vode je 100 stupnjeva. U Kelvinovoj ljestvici ta razlika je 100 kelvi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i="1" lang="hr-HR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  <a:ea typeface="Tahoma"/>
              </a:rPr>
              <a:t>t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  <a:ea typeface="Tahoma"/>
              </a:rPr>
              <a:t>/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  <a:ea typeface="Tahoma"/>
              </a:rPr>
              <a:t>o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  <a:ea typeface="Tahoma"/>
              </a:rPr>
              <a:t>C = </a:t>
            </a:r>
            <a:r>
              <a:rPr b="0" i="1" lang="hr-HR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  <a:ea typeface="Tahoma"/>
              </a:rPr>
              <a:t>T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  <a:ea typeface="Tahoma"/>
              </a:rPr>
              <a:t>/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Slika 3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Želimo li iskazati temperaturu, izmjerenu u stupnjevima Celzijevim, u kelvinima jednadžba j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  <a:ea typeface="Cambria Math"/>
              </a:rPr>
              <a:t>T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  <a:ea typeface="Cambria Math"/>
              </a:rPr>
              <a:t>/K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  <a:ea typeface="Cambria Math"/>
              </a:rPr>
              <a:t> = t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  <a:ea typeface="Cambria Math"/>
              </a:rPr>
              <a:t>/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  <a:ea typeface="Cambria Math"/>
              </a:rPr>
              <a:t>o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  <a:ea typeface="Cambria Math"/>
              </a:rPr>
              <a:t>C+27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ko iz kelvina preračunavamo u stupnjeve Celzija jednadžba glasi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  <a:ea typeface="Cambria Math"/>
              </a:rPr>
              <a:t>t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  <a:ea typeface="Cambria Math"/>
              </a:rPr>
              <a:t>/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  <a:ea typeface="Cambria Math"/>
              </a:rPr>
              <a:t>o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  <a:ea typeface="Cambria Math"/>
              </a:rPr>
              <a:t>C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  <a:ea typeface="Cambria Math"/>
              </a:rPr>
              <a:t> = T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  <a:ea typeface="Cambria Math"/>
              </a:rPr>
              <a:t>/K-27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datak: Temperature iskaži u drugoj temperaturnoj ljestvi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200 K = ? 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-100 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C = ? 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273 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C = ? 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73 K = ? 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10:19:10Z</dcterms:created>
  <dc:creator>Mladen Vidović</dc:creator>
  <dc:description/>
  <dc:language>en-US</dc:language>
  <cp:lastModifiedBy>MArina Dumančić</cp:lastModifiedBy>
  <dcterms:modified xsi:type="dcterms:W3CDTF">2019-09-13T19:18:07Z</dcterms:modified>
  <cp:revision>95</cp:revision>
  <dc:subject/>
  <dc:title>Mjerimo temperaturu</dc:title>
</cp:coreProperties>
</file>